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B32-EAB4-4681-A3EC-03716C6A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2DD-339D-4CA1-A930-E35A0FDE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50C-375C-4E12-A52B-75CE3956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CBA-17D6-4C13-96BF-94AC9E79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568-DF5F-4A15-A3C9-B7594E3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10C-294B-40BB-8391-6F859A2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17E-7D20-4707-9060-3D5CDFCE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298-7524-4064-8AA6-D5AC703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908-FEE5-4CE5-AC6A-41490F98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727-0F9B-4D7E-B13D-48C3CB5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ABD-B6E6-44C2-8455-E27F9EF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DAE-737C-43A4-9479-6665E2E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175-7517-4688-AC18-3B790A77F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339" r="0" b="43717"/>
          <a:stretch/>
        </p:blipFill>
        <p:spPr>
          <a:xfrm>
            <a:off x="1042920" y="907920"/>
            <a:ext cx="7056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42:30Z</dcterms:created>
  <dc:creator>נוה חנה</dc:creator>
  <dc:description/>
  <dc:language>en-US</dc:language>
  <cp:lastModifiedBy>נוה חנה</cp:lastModifiedBy>
  <dcterms:modified xsi:type="dcterms:W3CDTF">2012-01-02T06:43:32Z</dcterms:modified>
  <cp:revision>1</cp:revision>
  <dc:subject/>
  <dc:title>שקופית 1</dc:title>
</cp:coreProperties>
</file>